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A241A-55AE-41CC-A9D3-A1AF4FAB7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2B9-34EF-4222-94E3-F229845F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3EF-10A4-45F3-96F0-C300F13F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40C-C541-40C2-A621-9EAA9119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546-77C2-454C-AF82-EF34A19B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AD2-A00A-4AAC-AA10-B946A56B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B3D-6764-4A97-8016-8689D1C7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3A5-75DC-4F34-B127-BDB5BA2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3B9-1FF2-41CF-AFFF-69EE606A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2E8-232D-4E0F-8DB3-686A3AF3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DFA-61BB-4B59-9D33-DEE2A34A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023-DC01-42A2-84B4-A9986CD4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C15-8296-43D1-8345-B9639D53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1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83780-A993-4C38-8871-5F1453C50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rdp.ac-dijon.fr/cddp58/ear/welcome/index.php?accueil=1" TargetMode="External"/><Relationship Id="rId2" Type="http://schemas.openxmlformats.org/officeDocument/2006/relationships/hyperlink" Target="http://langues.ac-dijon.fr/article.php3?id_article=825" TargetMode="External"/><Relationship Id="rId3" Type="http://schemas.openxmlformats.org/officeDocument/2006/relationships/hyperlink" Target="http://perso.orange.fr/annie.gwynn/ear.htm" TargetMode="External"/><Relationship Id="rId4" Type="http://schemas.openxmlformats.org/officeDocument/2006/relationships/hyperlink" Target="http://perso.orange.fr/annie.gwynn/audio_tips.htm" TargetMode="External"/><Relationship Id="rId5" Type="http://schemas.openxmlformats.org/officeDocument/2006/relationships/hyperlink" Target="http://www.ceftrain.net/" TargetMode="External"/><Relationship Id="rId6" Type="http://schemas.openxmlformats.org/officeDocument/2006/relationships/hyperlink" Target="http://www.education.gouv.fr/bo/2006/23/MENE0601048C.htm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yber-langues.asso.fr/2002/actes/Colloque2002.doc" TargetMode="External"/><Relationship Id="rId2" Type="http://schemas.openxmlformats.org/officeDocument/2006/relationships/hyperlink" Target="http://jason.ac-bordeaux.fr/languesV.htm" TargetMode="External"/><Relationship Id="rId3" Type="http://schemas.openxmlformats.org/officeDocument/2006/relationships/hyperlink" Target="mailto:E@R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erso.orange.fr/annie.gwynn/audio_tips.htm#Rechercher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llereau.nevers.free.fr/claroline177/claroline177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92880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Ecoute @utonome Répétée</a:t>
            </a:r>
            <a:br>
              <a:rPr sz="2200"/>
            </a:b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Projet E@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3959280"/>
            <a:ext cx="71992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ournée Européenne des Langues 2006  Dij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03640" y="4938840"/>
            <a:ext cx="1476360" cy="118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00720" y="5151600"/>
            <a:ext cx="1692360" cy="968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00360" y="2570040"/>
            <a:ext cx="1641600" cy="10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80E-C42D-4A45-917B-DB8756C7ED3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9508C-818C-4CD8-9D06-5F8F6D42363C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 que nous espérons…pour no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élioration des capacités d’écoute et d'expression oral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éveloppement de straté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écouverte d'autres usages des baladeurs mp3, de l’Internet et des ordinat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nomie d’apprenti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rentissage tout au long de la 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D7D-C7A7-4FD0-ABA4-E69FEA3161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7DCF6-8C57-4CAF-BE0F-6E4E11CE5ED8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7240" y="270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actions de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4D8-88C0-48EC-ADE0-E21585F328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4D5CD-144A-4064-A7D0-8C0CA1D5252D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« L'utilisation des baladeurs dans le cadre des cours d'anglais a été très utile à notre progression dans cette matière. Elle nous a permis de nous entraîner plus longuement à l'oral, surtout dans l'optique de l'examen qui se passe à l'oral. De plus n'ayant que deux heures d'anglais par semaine, l'utilisation des baladeurs à la maison nous a permis de progresser plus rapidement et de pratiquer pl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âce à cet outil nous n'avions plus peur de parler à l'oral car le stress d'être écouté par les autres et de dire des bêtises nous freina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e gain de temps est aussi important car nous n'étions pas obligés de passer trop de temps dans des devoirs écrits. L'objectif de travailler surtout l'oral est donc atteint.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720" y="1079640"/>
            <a:ext cx="774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5B6-379E-405E-AD4C-35A2CAC5EBB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D2CC2-B95D-488A-BD45-1A25F4A387C8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1134720"/>
            <a:ext cx="7772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posi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es variés, permet de travailler l'écoute et s'habituer à des accents différents, aide à l'amélioration de la prononciation. S'enregistrer permet d'entendre ses erreurs et de se corriger. Possibilité de travailler à son rythme. Ce type de travail change de la routine on a plus envie de travailler parce que c'est différent on a l'impression de jou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néga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ut apprendre à utiliser les clés, le téléchargement n'est pas toujours facile et prend du temps. Ce travail prend du temps. Les textes ne sont pas toujours faciles à comprendre, ça va trop vite . L'enregistrement n'est pas toujours de bonne qualité. Certains élèves se sentent trop seuls, et ont trop de mal à comprendre (accent et vitesse d'élocution)Une élève aurait voulu des textes plus complexes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720720"/>
            <a:ext cx="792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670-BE94-4AE5-A459-61F050C8174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E3C90-E360-40FE-B140-B4BB420A03E2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42876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MIERES/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123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lèves estiment (60% d'entre eux) que l'activité leur a permis de progresser. Voici les points positifs reten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permet d'améliorer sensiblement la prono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permet l'acquisition de plus de vocab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permet de s'auto-corr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nous rend plus auto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elle permet aux élèves timides de s'exprimer de manière approfondie sans peur du regard des autres sans stress et à leur ryt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elle permet d'écouter des enregistrements plus longs qu'en clas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 ce qui concerne le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ints  négatif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ils portaient surtout sur la quantité de travail demandée et sur les problèmes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7CC-CD75-4985-9B9E-4BE7DC8058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10D59-6951-4F47-878E-998BFFF1C614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8912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point après 2 années d'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5DE-ED71-498D-97C8-3CF6B41F53F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AC9FC-43E2-42B9-8080-05B6E9E13675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s craintes de dé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e pas savoir utiliser les out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e pas revoir les baladeurs à la fin de l'an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 créer trop de travail supplémen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voir des difficultés à trouver des doc mp3 et à déterminer le type de travail demandé à l'élè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803-913D-4D94-89FC-45A6DB1FE5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6597F-90E5-471E-9A64-525C1604F782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lemen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ur les outils, on n'est pas se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ilan satisfaisant pour le retour des balad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s vraiment de travail supplémen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eaucoup de documents m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éflexion sur le type de travail, é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pport du CEC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150-AB29-48EF-9AD5-699287DD0A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2AE02-3FD4-454B-8EE9-A01A4C60AA66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b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7240" y="1619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rtail E@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rdp.ac-dijon.fr/cddp58/ear/welcome/index.php?accueil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te rendu de 2005/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angues.ac-dijon.fr/article.php3?id_article=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ctiv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rso.orange.fr/annie.gwynn/ear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ini formation 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0099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perso.orange.fr/annie.gwynn/audio_tip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égrer le  CEC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ceftrain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énovation de l'Enseignement des Langues Vivantes Etrang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education.gouv.fr/bo/2006/23/MENE0601048C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E4C-BB01-4C03-ADE5-2E7AC10EA9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484A-6AD3-416F-9AD0-D0A54327D468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Projet E@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0000" y="2924280"/>
            <a:ext cx="84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coute @utonome Répét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19640" y="4940280"/>
            <a:ext cx="1584000" cy="12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4941720"/>
            <a:ext cx="2087640" cy="119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4797360"/>
            <a:ext cx="100008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3E0-CB15-4D47-8643-FD779B2DCF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1BF09-153A-4A57-8D5F-EFE141CDF050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7240" y="20044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oter tous les élèves d’une classe de baladeurs numériques pour leur permettre de travail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es capacité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'écoute et d'expression 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ans  une situation d’«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onomie guidé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 »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2D9-F22C-46A0-99B5-A296C5AF58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90DAD-F813-46D1-B0ED-01D4A5F37A0F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2002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– 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ean Sabiron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 - </a:t>
            </a:r>
            <a:r>
              <a:rPr b="0" i="1" lang="en-GB" sz="2800" spc="-1" strike="noStrike">
                <a:solidFill>
                  <a:srgbClr val="666666"/>
                </a:solidFill>
                <a:latin typeface="Times New Roman"/>
              </a:rPr>
              <a:t>Université de Poit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2004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 - 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Domingo Bayon Lopez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666666"/>
                </a:solidFill>
                <a:latin typeface="Times New Roman"/>
              </a:rPr>
              <a:t>ac-borde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udionom@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pt 200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@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4/20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ngla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2 profs (2ndes, 1ère 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5/2006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ngla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2 profs /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spagn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en préparation (2ndes, 1ère LC,  B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6/200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ngla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3 profs /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spagn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1 prof (1ère LC, Term stg, Term lv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00F-0736-4A52-A1DB-0B33F94783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F3980-A8DF-48B1-B7AD-1BF78B166667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s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'élève est peu confronté à la langue c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’audio-oral est un peu délaissé en cl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u d’heures de c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icacité moyenne (qualité du magnéto, rythme de l’écout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iculté pour évaluer les productions orales des tous les élèves en cl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classes surcharg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 âge difficil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2A8-F4C6-4F8A-B044-C329E891C0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1D34D-E9FE-445F-8E5A-B811D08E060B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oratoires de lang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lles multimédia / infor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deurs mp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les élèves sont de + en + nombreux à en possé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EA6-50F0-41E1-9479-E7B780E705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4E0CB-73D4-43ED-A1FF-49C81E0CEF75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ladeurs 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é U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nction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fonction enregistr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icité d'ut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4E6-4364-4252-BDAA-F60D0385DC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D490A-615A-4701-8860-E7DF8B5B86A0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émarche du profess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0480" y="253512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élection de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ocuments m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dactisation si nécessaire (logiciel Aud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éparation d'une fiche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e à disposition des élè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E8E-66CE-4547-8369-2D5056BC19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93776-604C-4898-86C4-2EFCB20A005C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ise à disposition de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928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interne : fichier partagé sur les ordin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r une plate forme num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3F9-A9F7-48D0-BC18-A0A6793060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D406B-DDA4-4582-A51A-BCDF86DFA5E5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7240" y="251928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 positive  basée sur les descripteurs du cec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urager l'élè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E19-648F-4D01-AB31-7781E07E61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0E35E-DCBD-4047-B4B1-F179C4D3AC37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langues vivantes anglais espagnol baladeurs numériques mp3 clés usb</cp:keywords>
  <dc:language>en-US</dc:language>
  <cp:lastModifiedBy/>
  <cp:revision>0</cp:revision>
  <dc:subject/>
  <dc:title>Presentation JEL Dijon</dc:title>
</cp:coreProperties>
</file>