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CFF6-0580-4EC6-BCFC-3F8121C496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0BB-2B0B-40C0-B55D-68C20A98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20B-D43F-4164-8BC6-0141948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995-FA82-48CE-8C66-BAABB592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E19-C22D-4966-8CE5-79AFBA1A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1BD-8505-4CE7-AD8C-0EE9848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D5B-3F0D-4211-A87B-4389FFB8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67D-BA74-4197-B227-10931ADE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5AC-4F61-490D-9B58-AC2DB68D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63C-56C3-4B91-95E0-298256A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878-E8DF-48DD-865E-8D917E0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CA1-567B-4590-8CEC-B4A2135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CFF-8CC4-47CD-8E26-70FBEFA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1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53209-CA16-4DEA-AA82-9BC660C00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rdp.ac-dijon.fr/cddp58/ear/welcome/index.php?accueil=1" TargetMode="External"/><Relationship Id="rId2" Type="http://schemas.openxmlformats.org/officeDocument/2006/relationships/hyperlink" Target="http://langues.ac-dijon.fr/article.php3?id_article=825" TargetMode="External"/><Relationship Id="rId3" Type="http://schemas.openxmlformats.org/officeDocument/2006/relationships/hyperlink" Target="http://perso.orange.fr/annie.gwynn/ear.htm" TargetMode="External"/><Relationship Id="rId4" Type="http://schemas.openxmlformats.org/officeDocument/2006/relationships/hyperlink" Target="http://perso.orange.fr/annie.gwynn/audio_tips.htm" TargetMode="External"/><Relationship Id="rId5" Type="http://schemas.openxmlformats.org/officeDocument/2006/relationships/hyperlink" Target="http://www.ceftrain.net/" TargetMode="External"/><Relationship Id="rId6" Type="http://schemas.openxmlformats.org/officeDocument/2006/relationships/hyperlink" Target="http://www.education.gouv.fr/bo/2006/23/MENE0601048C.htm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yber-langues.asso.fr/2002/actes/Colloque2002.doc" TargetMode="External"/><Relationship Id="rId2" Type="http://schemas.openxmlformats.org/officeDocument/2006/relationships/hyperlink" Target="http://jason.ac-bordeaux.fr/languesV.htm" TargetMode="External"/><Relationship Id="rId3" Type="http://schemas.openxmlformats.org/officeDocument/2006/relationships/hyperlink" Target="mailto:E@R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erso.orange.fr/annie.gwynn/audio_tips.htm#Rechercher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llereau.nevers.free.fr/claroline177/claroline177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92880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Ecoute @utonome Répétée</a:t>
            </a:r>
            <a:br>
              <a:rPr sz="2200"/>
            </a:b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Projet E@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3959280"/>
            <a:ext cx="71992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ournée Européenne des Langues 2006  Dij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03640" y="4938840"/>
            <a:ext cx="1476360" cy="118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00720" y="5151600"/>
            <a:ext cx="1692360" cy="968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00360" y="2570040"/>
            <a:ext cx="1641600" cy="10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0D7-D2C5-42EB-A463-B94D15425CB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99971-94D8-4E36-A3C4-22F35D621C4A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 que nous espérons…pour no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élioration des capacités d’écoute et d'expression oral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éveloppement de straté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écouverte d'autres usages des baladeurs mp3, de l’Internet et des ordinat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nomie d’apprenti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rentissage tout au long de la 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A49-3C54-4DE1-A40C-E35402253E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A2EA2-6386-4F5C-BC35-77A2497320A2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7240" y="270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actions de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529-070E-47D2-B8B0-8ECB46570E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B7731-F102-471B-821C-7EBE3E879D54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« L'utilisation des baladeurs dans le cadre des cours d'anglais a été très utile à notre progression dans cette matière. Elle nous a permis de nous entraîner plus longuement à l'oral, surtout dans l'optique de l'examen qui se passe à l'oral. De plus n'ayant que deux heures d'anglais par semaine, l'utilisation des baladeurs à la maison nous a permis de progresser plus rapidement et de pratiquer pl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âce à cet outil nous n'avions plus peur de parler à l'oral car le stress d'être écouté par les autres et de dire des bêtises nous freina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e gain de temps est aussi important car nous n'étions pas obligés de passer trop de temps dans des devoirs écrits. L'objectif de travailler surtout l'oral est donc atteint.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720" y="1079640"/>
            <a:ext cx="774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9B1-A07A-4593-A0EF-4EB5F4C79D7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4E2BE-DF28-4EE8-9F66-D723A3C7DD3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1134720"/>
            <a:ext cx="7772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posi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es variés, permet de travailler l'écoute et s'habituer à des accents différents, aide à l'amélioration de la prononciation. S'enregistrer permet d'entendre ses erreurs et de se corriger. Possibilité de travailler à son rythme. Ce type de travail change de la routine on a plus envie de travailler parce que c'est différent on a l'impression de jou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néga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ut apprendre à utiliser les clés, le téléchargement n'est pas toujours facile et prend du temps. Ce travail prend du temps. Les textes ne sont pas toujours faciles à comprendre, ça va trop vite . L'enregistrement n'est pas toujours de bonne qualité. Certains élèves se sentent trop seuls, et ont trop de mal à comprendre (accent et vitesse d'élocution)Une élève aurait voulu des textes plus complexes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720720"/>
            <a:ext cx="792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3C4-7DE6-4E16-857E-52B18A57E71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F98D-4379-4502-9764-A9B956FF38C3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42876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MIERES/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123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lèves estiment (60% d'entre eux) que l'activité leur a permis de progresser. Voici les points positifs reten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permet d'améliorer sensiblement la prono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permet l'acquisition de plus de vocab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permet de s'auto-corr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l'activité nous rend plus auto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elle permet aux élèves timides de s'exprimer de manière approfondie sans peur du regard des autres sans stress et à leur ryt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elle permet d'écouter des enregistrements plus longs qu'en clas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 ce qui concerne le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ints  négatif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ils portaient surtout sur la quantité de travail demandée et sur les problèmes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5F9-EC27-4063-9B74-8F4EB4F5F8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E87F9-F20C-4835-B3F3-CEF1686EA25C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8912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point après 2 années d'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18A-59A3-4903-9EDC-6BD31AB43CE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28A8B-CF2D-422D-8E23-C9C178F0E1C3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s craintes de dé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e pas savoir utiliser les out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e pas revoir les baladeurs à la fin de l'an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 créer trop de travail supplémen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voir des difficultés à trouver des doc mp3 et à déterminer le type de travail demandé à l'élè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660-DE69-49FD-842E-B32E2EBBAF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10EF-5BD7-4BEB-9B9B-489F3A878540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lemen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ur les outils, on n'est pas se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ilan satisfaisant pour le retour des balad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s vraiment de travail supplémen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eaucoup de documents m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éflexion sur le type de travail, é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pport du CEC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208-DD8C-4700-BC95-F64AAC1B57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14890-3630-409A-837E-798A7812470D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b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7240" y="1619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rtail E@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rdp.ac-dijon.fr/cddp58/ear/welcome/index.php?accueil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te rendu de 2005/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angues.ac-dijon.fr/article.php3?id_article=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ctiv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rso.orange.fr/annie.gwynn/ear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ini formation 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0099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perso.orange.fr/annie.gwynn/audio_tip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égrer le  CEC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ceftrain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énovation de l'Enseignement des Langues Vivantes Etrang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education.gouv.fr/bo/2006/23/MENE0601048C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A97-4B27-4714-BA0B-896D0F134E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94991-BC66-445D-9E30-FE644D12D267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Projet E@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0000" y="2924280"/>
            <a:ext cx="84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coute @utonome Répét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19640" y="4940280"/>
            <a:ext cx="1584000" cy="12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4941720"/>
            <a:ext cx="2087640" cy="119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4797360"/>
            <a:ext cx="100008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B98-4286-4ECF-86DB-D14B897FA1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90D42-AD5D-45B0-A276-C9A3FEA73A8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7240" y="20044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oter tous les élèves d’une classe de baladeurs numériques pour leur permettre de travail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es capacité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'écoute et d'expression 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ans  une situation d’«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onomie guidé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 »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281-4C15-47B4-A8E9-AE53BDE442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4B945-F3C1-4C10-911C-D26414A70F2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2002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– 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ean Sabiron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 - </a:t>
            </a:r>
            <a:r>
              <a:rPr b="0" i="1" lang="en-GB" sz="2800" spc="-1" strike="noStrike">
                <a:solidFill>
                  <a:srgbClr val="666666"/>
                </a:solidFill>
                <a:latin typeface="Times New Roman"/>
              </a:rPr>
              <a:t>Université de Poit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2004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 -  </a:t>
            </a: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Domingo Bayon Lopez</a:t>
            </a: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666666"/>
                </a:solidFill>
                <a:latin typeface="Times New Roman"/>
              </a:rPr>
              <a:t>ac-borde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udionom@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pt 200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@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4/20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ngla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2 profs (2ndes, 1ère 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5/2006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ngla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2 profs /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spagn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en préparation (2ndes, 1ère LC,  B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6/200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ngla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 3 profs /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spagn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:1 prof (1ère LC, Term stg, Term lv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453-CDCD-4BB9-A157-772852FABC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D4BF2-B5F8-4D20-B66F-1272C6F169E1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s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'élève est peu confronté à la langue c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’audio-oral est un peu délaissé en cl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u d’heures de c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icacité moyenne (qualité du magnéto, rythme de l’écout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iculté pour évaluer les productions orales des tous les élèves en cl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classes surcharg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 âge difficil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E1E-A33A-49CD-844E-981C9BAAA2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59857-D669-4BDB-A3FE-3E99BBA942F0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oratoires de lang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lles multimédia / infor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deurs mp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les élèves sont de + en + nombreux à en possé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F9D-1ABF-4573-9CE8-60AD724746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16D3A-1BB0-41B5-8679-69B7B09F7A77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ladeurs 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é U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nction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fonction enregistr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icité d'ut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BA5-5103-484B-8EA3-5472877CA6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18139-823B-4B06-B6E9-9EC5D1ED464B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émarche du profess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0480" y="253512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élection de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ocuments m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dactisation si nécessaire (logiciel Aud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éparation d'une fiche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e à disposition des élè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D06-CE7B-473B-B26B-087BCBD311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16027-8614-4A80-B767-C33E0C1C9B62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ise à disposition de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928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interne : fichier partagé sur les ordin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r une plate forme num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AFA-44B0-42B2-B477-2CA3287D89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5079A-680E-4E55-92CB-7C6D425B26FA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7240" y="251928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 positive  basée sur les descripteurs du cec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urager l'élè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A06-D5F2-4F17-957F-A3261C57E3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4962B-8D30-4BDB-98DC-574A482DBDB4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langues vivantes anglais espagnol baladeurs numériques mp3 clés usb</cp:keywords>
  <dc:language>en-US</dc:language>
  <cp:lastModifiedBy/>
  <cp:revision>0</cp:revision>
  <dc:subject/>
  <dc:title>Presentation JEL Dijon</dc:title>
</cp:coreProperties>
</file>