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rso.orange.fr/annie.gwynn/cecrl/template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andmark-project.com/classweb/tools/rubric_builder.php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erso.orange.fr/annie.gwynn/pnp/se_presenter.pdf" TargetMode="External"/><Relationship Id="rId2" Type="http://schemas.openxmlformats.org/officeDocument/2006/relationships/hyperlink" Target="http://perso.orange.fr/annie.gwynn/pnp/recitation.pdf" TargetMode="External"/><Relationship Id="rId3" Type="http://schemas.openxmlformats.org/officeDocument/2006/relationships/hyperlink" Target="http://perso.orange.fr/annie.gwynn/pnp/bac_stg.pdf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erso.orange.fr/annie.gwynn/pnp/CO.pdf" TargetMode="External"/><Relationship Id="rId2" Type="http://schemas.openxmlformats.org/officeDocument/2006/relationships/hyperlink" Target="http://perso.orange.fr/annie.gwynn/pnp/diversity_worksheet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741240" y="2160360"/>
            <a:ext cx="877248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telier 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« Evaluer les compétences orales : objectifs, critères et descripteurs »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nnie Gwyn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380960"/>
            <a:ext cx="907272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 façon générale l'évaluation de la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Production Orale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reste toujours difficile en classe (temps, que faire avec le reste de la classe?)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is dans le cadre d'une tâche il est plus facile de garder l'attention des élèves qui écoutent ce que leurs camarades ont à dir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'utilisation de fiches avec descripteurs rend l'évaluation  plus formative, moins subjective, plus transparent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 a le sentiment de faire équipe avec les élèves pour améliorer la production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'élève comprend mieux ce qu'il doit faire pour améliorer sa capacité de production oral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ur la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réception oral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'évaluation est plutôt facile...(pas de problème de temps, tous les élèves font la même chose en même temps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r contre comment s'assurer (au bac par exemple) que l'élève comprend bien les phrases censées vérifier sa compréhension orale (possibilité de bloquer sur la compréhension de l'écrit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ésentation de « mes outils »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emples de fiches d'évaluation pour la Production Ora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emples  d'évaluation de la Réception Ora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bjectifs/critères/descripteu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 page récapitulativ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pour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pérer/ nommer / trouver les objectifs de communication utilisés dans les tâches d'apprentissa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Élaborer  des fiches d'évaluation qui prennent en compte les critères par niveau de compétence 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e familiariser avec les descripteurs 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erso.orange.fr/annie.gwynn/cecrl/template.pdf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réer des fiches d'évalu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nsparence de l'évalu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es élèves ont les fiches et nous les étudions ensemble pour bien comprendre quels sont les critères d'évaluation de la capacité à communiquer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éer des fiches d'évaluation adaptées à la tâc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n outil bien utile :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andmark-project.com/classweb/tools/rubric_builder.php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duction Orale en continu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e6e6e6"/>
                </a:solidFill>
                <a:uFillTx/>
                <a:latin typeface="Times New Roman"/>
              </a:rPr>
              <a:t>Exemple de fiches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iveau A2/B1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 présenter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(avec préparatio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(1ères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ise en scène d'un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oèm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2ndes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ésenter un document et argumenter (Term stg) utilisation de la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iche du ba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éception Ora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55148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l ne s'agit pas de vérifier la compréhension du détail (de tous les détails) mais la capacité à comprendre le messa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éparer la fiche d'évaluation à partir de ce qu'on entend et non pas de ce qu'on lit sur le script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Quel est le message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Exemple de fich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iveau B1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levis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iveau B1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ivers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marqu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026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'assurer que l'élève comprend bien les consign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érifier la compréhension sans donner de grille d'écoute? Mais alors risque d'évaluer la production orale ou écrite et non la réception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fficulté avec un seul enregistrement de déterminer un niveau atteint. (Le type d'enregistrement  est différent en A2 et B1 par exemple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escripteurs du cecr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36200"/>
            <a:ext cx="9072360" cy="5107320"/>
          </a:xfrm>
          <a:prstGeom prst="rect">
            <a:avLst/>
          </a:prstGeom>
          <a:noFill/>
          <a:ln w="36000">
            <a:solidFill>
              <a:srgbClr val="ffff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B2 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eut comprendre les enregistrements en langue standard que l’on peut rencontrer dans la vie sociale, professionnelle ou universitaire et 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reconnaître le point de vue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 et l’attitude du locuteur ainsi que 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le contenu informatif.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eut comprendre la plupart des documentaires radiodiffusés en langue standard et 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peut identifier correctement l’humeur, le ton, etc., du locuteur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B1 </a:t>
            </a:r>
            <a:r>
              <a:rPr b="0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Peut comprendre l’information contenue dans la plupart des document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enregistrés ou radiodiffusés, dont le sujet est d’intérêt personnel et la langue standard clairement articulée.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Peut comprendre</a:t>
            </a:r>
            <a:r>
              <a:rPr b="1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 les points principaux</a:t>
            </a:r>
            <a:r>
              <a:rPr b="0" lang="en-GB" sz="2000" spc="-1" strike="noStrike" u="sng">
                <a:solidFill>
                  <a:srgbClr val="ff9966"/>
                </a:solidFill>
                <a:uFillTx/>
                <a:latin typeface="Times New Roman"/>
              </a:rPr>
              <a:t> des bulletins d’information radiophoniques et de documents enregistrés simples, sur un sujet familier, si le débit est assez lent et la langue relativement articulée.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A2 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eut 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comprendre et extraire l’information essentielle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 de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 courts passages enregistrés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 ayant trait à un sujet courant prévisible, 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si le débit est lent </a:t>
            </a: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et la langue clairement articulé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ie gwynn</dc:creator>
  <dc:description/>
  <dc:language>en-US</dc:language>
  <cp:lastModifiedBy>annie gwynn</cp:lastModifiedBy>
  <cp:revision>0</cp:revision>
  <dc:subject/>
  <dc:title/>
</cp:coreProperties>
</file>